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214B-1840-468E-B01D-0BB3A1660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kispaces offers free pages to k-12 educators, and they will also set up the accounts for you if you send in the usernames and passwords for your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3A8D-1F14-4163-B268-8CAD320D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CAE5-A9DE-4F65-B1F1-E611CE48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7936-2395-4D86-A313-339BF548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B493-2676-4806-A40C-77103087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4469-D043-4F1A-8B36-36EB8B88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733C-D74F-463E-9030-7C562AEC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4D46-40D4-4A15-BD77-27B9DBD3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C2D6-D1B4-48C5-B1DE-22F12742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758E-7332-4180-B925-9DBC0D3D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4D50-C961-476E-AFD2-034F2FFB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DD7D-5FAC-42EE-8525-41C5C135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C83C-D235-48DF-BDFF-E798F32B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0B22-4551-42E9-886A-80D2AF6D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01BA-0B60-4913-BFEF-51D9649E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F785-5A8E-4FA8-BB7E-217CFF61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1A09-A791-4786-A367-A67F9C7E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B02E-B99D-4F90-A036-AB7CF91C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D5A9-B2CA-4A71-A1AA-6292FC7F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7E96-9B64-4825-8ADA-E7463CDF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83D2-0875-45FB-AA4A-60F8C07E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3EE5-008E-45FA-A07C-B7587C8E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9F39-5C56-4FB2-84A7-D01F4484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7DFB-64CF-4187-B6E2-2A7FE345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1B1A-2BC3-430E-83D8-BA39E4F7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62C6-7ACE-4E57-9F23-D750222C1772}" type="slidenum">
              <a:rPr b="0" lang="en-US" sz="1400" spc="-1" strike="noStrike">
                <a:solidFill>
                  <a:srgbClr val="00408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8305-F2FD-4770-922C-7B3222C4CDF3}" type="slidenum">
              <a:rPr b="0" lang="en-US" sz="1400" spc="-1" strike="noStrike">
                <a:solidFill>
                  <a:srgbClr val="00408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logg-ed.com/" TargetMode="External"/><Relationship Id="rId3" Type="http://schemas.openxmlformats.org/officeDocument/2006/relationships/hyperlink" Target="http://coolcatteacher.blogspot.com/" TargetMode="External"/><Relationship Id="rId4" Type="http://schemas.openxmlformats.org/officeDocument/2006/relationships/hyperlink" Target="http://blog.scottjelias.net/" TargetMode="External"/><Relationship Id="rId5" Type="http://schemas.openxmlformats.org/officeDocument/2006/relationships/hyperlink" Target="http://epiphanyinbaltimore.blogspot.com/" TargetMode="Externa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981080" y="2438280"/>
            <a:ext cx="6019920" cy="2743200"/>
          </a:xfrm>
          <a:prstGeom prst="rect">
            <a:avLst/>
          </a:prstGeom>
          <a:solidFill>
            <a:srgbClr val="99ccff">
              <a:alpha val="48000"/>
            </a:srgbClr>
          </a:solidFill>
          <a:ln w="3240">
            <a:solidFill>
              <a:srgbClr val="004080"/>
            </a:solidFill>
            <a:miter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080"/>
                </a:solidFill>
                <a:latin typeface="Verdana"/>
              </a:rPr>
              <a:t>How do you use technology in you classroom?</a:t>
            </a:r>
            <a:endParaRPr b="0" lang="en-US" sz="48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63244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Think Pair Share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How can you begin?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solidFill>
            <a:srgbClr val="99ccff">
              <a:alpha val="49000"/>
            </a:srgbClr>
          </a:solidFill>
          <a:ln w="3240">
            <a:solidFill>
              <a:srgbClr val="004080"/>
            </a:solidFill>
            <a:miter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Verdana"/>
              </a:rPr>
              <a:t>Consider what kind of access your students have.</a:t>
            </a:r>
            <a:endParaRPr b="0" lang="en-US" sz="2800" spc="-1" strike="noStrike">
              <a:solidFill>
                <a:srgbClr val="00408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Verdana"/>
              </a:rPr>
              <a:t>Do they have home access?</a:t>
            </a:r>
            <a:endParaRPr b="0" lang="en-US" sz="2400" spc="-1" strike="noStrike">
              <a:solidFill>
                <a:srgbClr val="00408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Verdana"/>
              </a:rPr>
              <a:t>Can you get time in the school computer lab?</a:t>
            </a:r>
            <a:endParaRPr b="0" lang="en-US" sz="24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Verdana"/>
              </a:rPr>
              <a:t>Consider what you want to accomplish.</a:t>
            </a:r>
            <a:endParaRPr b="0" lang="en-US" sz="2800" spc="-1" strike="noStrike">
              <a:solidFill>
                <a:srgbClr val="00408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Verdana"/>
              </a:rPr>
              <a:t>Information dissemination?</a:t>
            </a:r>
            <a:endParaRPr b="0" lang="en-US" sz="2400" spc="-1" strike="noStrike">
              <a:solidFill>
                <a:srgbClr val="00408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Verdana"/>
              </a:rPr>
              <a:t>Student discussion?</a:t>
            </a:r>
            <a:endParaRPr b="0" lang="en-US" sz="2400" spc="-1" strike="noStrike">
              <a:solidFill>
                <a:srgbClr val="00408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Verdana"/>
              </a:rPr>
              <a:t>Student publication?</a:t>
            </a:r>
            <a:endParaRPr b="0" lang="en-US" sz="24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Educators to Check Out Online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001000" cy="5791320"/>
          </a:xfrm>
          <a:prstGeom prst="rect">
            <a:avLst/>
          </a:prstGeom>
          <a:solidFill>
            <a:srgbClr val="99ccff">
              <a:alpha val="46000"/>
            </a:srgbClr>
          </a:solidFill>
          <a:ln w="3240">
            <a:solidFill>
              <a:srgbClr val="004080"/>
            </a:solidFill>
            <a:miter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Verdana"/>
              </a:rPr>
              <a:t>Will Richardson’s Webblog-ed</a:t>
            </a:r>
            <a:endParaRPr b="0" lang="en-US" sz="2400" spc="-1" strike="noStrike">
              <a:solidFill>
                <a:srgbClr val="004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The Web 2.0 guru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Verdana"/>
                <a:hlinkClick r:id="rId2"/>
              </a:rPr>
              <a:t>http://weblogg-ed.com/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Verdana"/>
              </a:rPr>
              <a:t>Vicki Davis’ Cool Cat Teacher</a:t>
            </a:r>
            <a:endParaRPr b="0" lang="en-US" sz="2400" spc="-1" strike="noStrike">
              <a:solidFill>
                <a:srgbClr val="004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Gives specific instructions for starting blogs, etc. and she is really on top of new technology as it becomes available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Verdana"/>
                <a:hlinkClick r:id="rId3"/>
              </a:rPr>
              <a:t>http://coolcatteacher.blogspot.com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Verdana"/>
              </a:rPr>
              <a:t>Scott Elias’ Dare I Disturb the Universe</a:t>
            </a:r>
            <a:endParaRPr b="0" lang="en-US" sz="2400" spc="-1" strike="noStrike">
              <a:solidFill>
                <a:srgbClr val="004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An administrator who *gasp* questions his practices and tries to improve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Verdana"/>
                <a:hlinkClick r:id="rId4"/>
              </a:rPr>
              <a:t>http://blog.scottjelias.net/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Verdana"/>
              </a:rPr>
              <a:t>Epiphany in Baltimore</a:t>
            </a:r>
            <a:endParaRPr b="0" lang="en-US" sz="2400" spc="-1" strike="noStrike">
              <a:solidFill>
                <a:srgbClr val="004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An East Coast Math Teacher who is getting his Master’s and trying to improve his teaching all the time: sound familiar?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Verdana"/>
                <a:hlinkClick r:id="rId5"/>
              </a:rPr>
              <a:t>http://epiphanyinbaltimore.blogspot.com/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Think Pair Share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5867280" cy="2438640"/>
          </a:xfrm>
          <a:prstGeom prst="rect">
            <a:avLst/>
          </a:prstGeom>
          <a:solidFill>
            <a:srgbClr val="99ccff">
              <a:alpha val="48000"/>
            </a:srgbClr>
          </a:solidFill>
          <a:ln w="3240">
            <a:solidFill>
              <a:srgbClr val="004080"/>
            </a:solidFill>
            <a:miter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What might you do with technology in your classroom?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6553080" cy="762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Verdana"/>
              </a:rPr>
              <a:t>Why Technology in the Classroom?</a:t>
            </a:r>
            <a:endParaRPr b="0" lang="en-US" sz="28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0" y="2209320"/>
            <a:ext cx="6324480" cy="3505320"/>
          </a:xfrm>
          <a:prstGeom prst="rect">
            <a:avLst/>
          </a:prstGeom>
          <a:solidFill>
            <a:srgbClr val="99ccff">
              <a:alpha val="48000"/>
            </a:srgbClr>
          </a:solidFill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Kids love it (wow factor)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Connection opportunities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Verdana"/>
              </a:rPr>
              <a:t>You with other educators</a:t>
            </a:r>
            <a:endParaRPr b="0" lang="en-US" sz="2800" spc="-1" strike="noStrike">
              <a:solidFill>
                <a:srgbClr val="004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Verdana"/>
              </a:rPr>
              <a:t>Kids with other kids </a:t>
            </a:r>
            <a:endParaRPr b="0" lang="en-US" sz="28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Kids learn to learn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Verdana"/>
              </a:rPr>
              <a:t>Doing something new</a:t>
            </a:r>
            <a:endParaRPr b="0" lang="en-US" sz="28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7010280" cy="762120"/>
          </a:xfrm>
          <a:prstGeom prst="rect">
            <a:avLst/>
          </a:prstGeom>
          <a:solidFill>
            <a:srgbClr val="99ccff">
              <a:alpha val="48000"/>
            </a:srgbClr>
          </a:solidFill>
          <a:ln w="3240">
            <a:solidFill>
              <a:srgbClr val="004080"/>
            </a:solidFill>
            <a:miter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We hear a lot about this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848720" cy="5675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352680" y="4800600"/>
            <a:ext cx="3353040" cy="838080"/>
          </a:xfrm>
          <a:prstGeom prst="rect">
            <a:avLst/>
          </a:prstGeom>
          <a:solidFill>
            <a:srgbClr val="99ccff">
              <a:alpha val="48000"/>
            </a:srgbClr>
          </a:solidFill>
          <a:ln w="3240">
            <a:solidFill>
              <a:srgbClr val="004080"/>
            </a:solidFill>
            <a:miter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…</a:t>
            </a: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and these.</a:t>
            </a:r>
            <a:endParaRPr b="0" lang="en-US" sz="32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676520" y="5486400"/>
            <a:ext cx="1752480" cy="1371600"/>
          </a:xfrm>
          <a:prstGeom prst="rightArrow">
            <a:avLst>
              <a:gd name="adj1" fmla="val 50000"/>
              <a:gd name="adj2" fmla="val 31942"/>
            </a:avLst>
          </a:prstGeom>
          <a:solidFill>
            <a:srgbClr val="99ccff"/>
          </a:solidFill>
          <a:ln w="936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676520" y="762120"/>
            <a:ext cx="1676160" cy="1371600"/>
          </a:xfrm>
          <a:prstGeom prst="rightArrow">
            <a:avLst>
              <a:gd name="adj1" fmla="val 47463"/>
              <a:gd name="adj2" fmla="val 49645"/>
            </a:avLst>
          </a:prstGeom>
          <a:solidFill>
            <a:srgbClr val="99ccff"/>
          </a:solidFill>
          <a:ln w="936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4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So, what about…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" y="198360"/>
            <a:ext cx="9140760" cy="6659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440" y="4114800"/>
            <a:ext cx="5715000" cy="914400"/>
          </a:xfrm>
          <a:prstGeom prst="rect">
            <a:avLst/>
          </a:prstGeom>
          <a:solidFill>
            <a:srgbClr val="99ccff">
              <a:alpha val="47000"/>
            </a:srgbClr>
          </a:solidFill>
          <a:ln w="3240">
            <a:solidFill>
              <a:srgbClr val="004080"/>
            </a:solidFill>
            <a:miter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Arial"/>
              </a:rPr>
              <a:t>A Home Page with links to class pages along with a daily calendar</a:t>
            </a:r>
            <a:endParaRPr b="0" lang="en-US" sz="24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6320" y="487440"/>
            <a:ext cx="9067680" cy="6294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71440" y="4114800"/>
            <a:ext cx="5715000" cy="914400"/>
          </a:xfrm>
          <a:prstGeom prst="rect">
            <a:avLst/>
          </a:prstGeom>
          <a:solidFill>
            <a:srgbClr val="99ccff">
              <a:alpha val="47000"/>
            </a:srgbClr>
          </a:solidFill>
          <a:ln w="3240">
            <a:solidFill>
              <a:srgbClr val="004080"/>
            </a:solidFill>
            <a:miter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Arial"/>
              </a:rPr>
              <a:t>A Class Page with links to handouts and daily PowerPoint presentations</a:t>
            </a:r>
            <a:endParaRPr b="0" lang="en-US" sz="24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Student Projects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1573200"/>
            <a:ext cx="9144000" cy="5284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95680" y="2742840"/>
            <a:ext cx="4191120" cy="762120"/>
          </a:xfrm>
          <a:prstGeom prst="rect">
            <a:avLst/>
          </a:prstGeom>
          <a:solidFill>
            <a:srgbClr val="99ccff">
              <a:alpha val="47000"/>
            </a:srgbClr>
          </a:solidFill>
          <a:ln w="3240">
            <a:solidFill>
              <a:srgbClr val="004080"/>
            </a:solidFill>
            <a:miter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Student Review and Overview of </a:t>
            </a:r>
            <a:r>
              <a:rPr b="0" i="1" lang="en-US" sz="2000" spc="-1" strike="noStrike">
                <a:solidFill>
                  <a:srgbClr val="004080"/>
                </a:solidFill>
                <a:latin typeface="Verdana"/>
              </a:rPr>
              <a:t>A Brave New World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6364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8120" y="2742840"/>
            <a:ext cx="4114800" cy="609480"/>
          </a:xfrm>
          <a:prstGeom prst="rect">
            <a:avLst/>
          </a:prstGeom>
          <a:solidFill>
            <a:srgbClr val="99ccff">
              <a:alpha val="47000"/>
            </a:srgbClr>
          </a:solidFill>
          <a:ln w="3240">
            <a:solidFill>
              <a:srgbClr val="004080"/>
            </a:solidFill>
            <a:miter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tudent Discussion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7848720" cy="6824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33720" y="2514240"/>
            <a:ext cx="4572000" cy="1066680"/>
          </a:xfrm>
          <a:prstGeom prst="rect">
            <a:avLst/>
          </a:prstGeom>
          <a:solidFill>
            <a:srgbClr val="99ccff">
              <a:alpha val="47000"/>
            </a:srgbClr>
          </a:solidFill>
          <a:ln w="3240">
            <a:solidFill>
              <a:srgbClr val="004080"/>
            </a:solidFill>
            <a:miter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Arial"/>
              </a:rPr>
              <a:t>A way for students to contact you, even if they have lost your email address (for the third time)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03:26:21Z</dcterms:created>
  <dc:creator>Annaliese Werner</dc:creator>
  <dc:description/>
  <dc:language>en-US</dc:language>
  <cp:lastModifiedBy>Annaliese Werner</cp:lastModifiedBy>
  <cp:lastPrinted>2007-12-09T06:18:53Z</cp:lastPrinted>
  <dcterms:modified xsi:type="dcterms:W3CDTF">2007-12-09T06:19:38Z</dcterms:modified>
  <cp:revision>19</cp:revision>
  <dc:subject/>
  <dc:title>PowerPoint Presentation</dc:title>
</cp:coreProperties>
</file>